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5.png" ContentType="image/png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28.wmf" ContentType="image/x-wmf"/>
  <Override PartName="/ppt/media/image37.jpeg" ContentType="image/jpeg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esson 6 - 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altograph UI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424E-4223-4DBF-B116-8566B55537E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esson 6 - 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661D-4F7A-470A-A0C4-426250F9AFF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DB8-4806-4BEF-8B4C-60FB3107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83808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D026-4B6D-440C-B104-F65A0BDE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076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82076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62C-59B4-4016-8054-46B67826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6608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3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83808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46608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93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600-C159-4049-A75C-90F26D2B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38FD-02DA-4868-957A-DB6E9185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4A55-E3C6-4613-BBDF-FFCC5826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85D3-2778-455A-9124-6002073D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DC5A-556C-4A19-BC1D-C4BCB783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D631-5ED3-4638-9E08-705D17C7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9BFE-6064-447E-B41F-BBD25161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076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ACAF-74B9-49ED-849B-83B54A39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4A4-5333-4067-8C91-69A486FC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2076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2076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8379-0416-4AE5-BE74-054BC4F3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2076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1556-2CE4-427A-A852-A46AA1D1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80B4-10FD-4CC5-936C-B8D3F2C7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2076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C216-51CD-485F-994A-EB91848A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6608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3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6608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3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24A1-05B5-4C5C-B853-6588B2F1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44B2-2EF3-47ED-9CF3-86E3053A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076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34E-81EA-43AE-8F5E-6AB27B12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4892-6A63-4A2C-A35C-834EC915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B8D-8473-4142-BBB1-7144F75E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5D19-33A8-4718-824B-5EE4804A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2076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82076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1B6-4E98-4ED8-9930-EDFF569E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2076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808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53A-A386-446A-B893-94050AEC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altograph U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A1A0-E639-4004-ADB2-6D248789C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altograph U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0B11-E093-4A52-94FD-A0C07D610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1523880" y="1143000"/>
            <a:ext cx="67057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Jokerman"/>
              </a:rPr>
              <a:t>Mixed &amp; 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Jokerman"/>
              <a:ea typeface="Joker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Jokerman"/>
              </a:rPr>
              <a:t>Entire 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Jokerman"/>
              <a:ea typeface="Joker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Jokerman"/>
              </a:rPr>
              <a:t>Radicals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362320" y="76320"/>
            <a:ext cx="510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400" spc="-1" strike="noStrike">
                <a:solidFill>
                  <a:srgbClr val="000000"/>
                </a:solidFill>
                <a:latin typeface="Waltograph UI"/>
              </a:rPr>
              <a:t>Section 4.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Object 2"/>
          <p:cNvGraphicFramePr/>
          <p:nvPr/>
        </p:nvGraphicFramePr>
        <p:xfrm>
          <a:off x="3352680" y="1631880"/>
          <a:ext cx="152244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631880"/>
                    <a:ext cx="15224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3"/>
          <p:cNvGraphicFramePr/>
          <p:nvPr/>
        </p:nvGraphicFramePr>
        <p:xfrm>
          <a:off x="3598920" y="3200400"/>
          <a:ext cx="233820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98920" y="3200400"/>
                    <a:ext cx="23382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4"/>
          <p:cNvGraphicFramePr/>
          <p:nvPr/>
        </p:nvGraphicFramePr>
        <p:xfrm>
          <a:off x="7091280" y="3209760"/>
          <a:ext cx="1482840" cy="80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91280" y="3209760"/>
                    <a:ext cx="148284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5"/>
          <p:cNvGraphicFramePr/>
          <p:nvPr/>
        </p:nvGraphicFramePr>
        <p:xfrm>
          <a:off x="3414600" y="4984920"/>
          <a:ext cx="2605320" cy="80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14600" y="4984920"/>
                    <a:ext cx="26053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6"/>
          <p:cNvGraphicFramePr/>
          <p:nvPr/>
        </p:nvGraphicFramePr>
        <p:xfrm>
          <a:off x="7226280" y="4984920"/>
          <a:ext cx="1527120" cy="80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26280" y="4984920"/>
                    <a:ext cx="15271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7"/>
          <p:cNvGraphicFramePr/>
          <p:nvPr/>
        </p:nvGraphicFramePr>
        <p:xfrm>
          <a:off x="6959520" y="1631880"/>
          <a:ext cx="1776600" cy="80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59520" y="1631880"/>
                    <a:ext cx="17766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altograph UI"/>
              </a:rPr>
              <a:t>More examples of mixed to entire radicals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graphicFrame>
        <p:nvGraphicFramePr>
          <p:cNvPr id="261" name="Object 11"/>
          <p:cNvGraphicFramePr/>
          <p:nvPr/>
        </p:nvGraphicFramePr>
        <p:xfrm>
          <a:off x="1179360" y="3254400"/>
          <a:ext cx="1124280" cy="76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2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79360" y="3254400"/>
                    <a:ext cx="11242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3" name="Object 12"/>
              <p:cNvSpPr txBox="1"/>
              <p:nvPr/>
            </p:nvSpPr>
            <p:spPr>
              <a:xfrm>
                <a:off x="1071720" y="1631880"/>
                <a:ext cx="13935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264" name="Object 13"/>
          <p:cNvGraphicFramePr/>
          <p:nvPr/>
        </p:nvGraphicFramePr>
        <p:xfrm>
          <a:off x="1228680" y="5006880"/>
          <a:ext cx="1077840" cy="760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5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5006880"/>
                    <a:ext cx="107784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15"/>
          <p:cNvGraphicFramePr/>
          <p:nvPr/>
        </p:nvGraphicFramePr>
        <p:xfrm>
          <a:off x="4848120" y="1600200"/>
          <a:ext cx="1387440" cy="797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7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48120" y="1600200"/>
                    <a:ext cx="13874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Waltograph UI"/>
              </a:rPr>
              <a:t>Try this TOUGHIE! CONVERT FROM MIXED TO ENTIRE</a:t>
            </a: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3216240" y="2209680"/>
          <a:ext cx="310356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6240" y="2209680"/>
                    <a:ext cx="31035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5"/>
          <p:cNvGraphicFramePr/>
          <p:nvPr/>
        </p:nvGraphicFramePr>
        <p:xfrm>
          <a:off x="6799320" y="2219400"/>
          <a:ext cx="2066760" cy="8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99320" y="2219400"/>
                    <a:ext cx="206676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6"/>
          <p:cNvGraphicFramePr/>
          <p:nvPr/>
        </p:nvGraphicFramePr>
        <p:xfrm>
          <a:off x="1201680" y="2241720"/>
          <a:ext cx="107964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01680" y="2241720"/>
                    <a:ext cx="10796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AutoShape 7"/>
          <p:cNvSpPr/>
          <p:nvPr/>
        </p:nvSpPr>
        <p:spPr>
          <a:xfrm>
            <a:off x="1371600" y="1219320"/>
            <a:ext cx="6858000" cy="533160"/>
          </a:xfrm>
          <a:prstGeom prst="wedgeRectCallout">
            <a:avLst>
              <a:gd name="adj1" fmla="val -48425"/>
              <a:gd name="adj2" fmla="val 184226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imes New Roman"/>
              </a:rPr>
              <a:t>How can you rewrite 6 as a 4</a:t>
            </a:r>
            <a:r>
              <a:rPr b="1" lang="en-CA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CA" sz="3200" spc="-1" strike="noStrike">
                <a:solidFill>
                  <a:srgbClr val="ffffff"/>
                </a:solidFill>
                <a:latin typeface="Times New Roman"/>
              </a:rPr>
              <a:t> root?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8"/>
          <p:cNvSpPr/>
          <p:nvPr/>
        </p:nvSpPr>
        <p:spPr>
          <a:xfrm rot="10800000">
            <a:off x="990720" y="3428640"/>
            <a:ext cx="5029200" cy="1066680"/>
          </a:xfrm>
          <a:prstGeom prst="wedgeRectCallout">
            <a:avLst>
              <a:gd name="adj1" fmla="val -9726"/>
              <a:gd name="adj2" fmla="val 98509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imes New Roman"/>
              </a:rPr>
              <a:t>Just calculate 6</a:t>
            </a:r>
            <a:r>
              <a:rPr b="1" lang="en-CA" sz="2800" spc="-1" strike="noStrike" baseline="30000">
                <a:solidFill>
                  <a:srgbClr val="ffffff"/>
                </a:solidFill>
                <a:latin typeface="Times New Roman"/>
              </a:rPr>
              <a:t>4 </a:t>
            </a:r>
            <a:r>
              <a:rPr b="1" lang="en-CA" sz="2800" spc="-1" strike="noStrike">
                <a:solidFill>
                  <a:srgbClr val="ffffff"/>
                </a:solidFill>
                <a:latin typeface="Times New Roman"/>
              </a:rPr>
              <a:t>(6x6x6x6)</a:t>
            </a:r>
            <a:r>
              <a:rPr b="1" lang="en-CA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CA" sz="2800" spc="-1" strike="noStrike">
                <a:solidFill>
                  <a:srgbClr val="ffffff"/>
                </a:solidFill>
                <a:latin typeface="Times New Roman"/>
              </a:rPr>
              <a:t>and place it under the 4th root sig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9"/>
          <p:cNvSpPr/>
          <p:nvPr/>
        </p:nvSpPr>
        <p:spPr>
          <a:xfrm>
            <a:off x="914400" y="4800600"/>
            <a:ext cx="7924680" cy="1828800"/>
          </a:xfrm>
          <a:prstGeom prst="cloudCallout">
            <a:avLst>
              <a:gd name="adj1" fmla="val 48916"/>
              <a:gd name="adj2" fmla="val -110763"/>
            </a:avLst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2209680" y="4876920"/>
            <a:ext cx="65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REMEMB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f you are not confident that this is the answer, always check by evaluating both numbers in your calculator.  They should m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WordArt 2"/>
          <p:cNvSpPr txBox="1"/>
          <p:nvPr/>
        </p:nvSpPr>
        <p:spPr>
          <a:xfrm>
            <a:off x="1219320" y="304920"/>
            <a:ext cx="7543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005c7a"/>
                  </a:outerShdw>
                </a:effectLst>
                <a:latin typeface="Handmedown"/>
              </a:rPr>
              <a:t>Homework Time!</a:t>
            </a:r>
            <a:endParaRPr b="1" lang="en-US" sz="2400" spc="1" strike="noStrike">
              <a:ln w="0">
                <a:noFill/>
              </a:ln>
              <a:solidFill>
                <a:srgbClr val="0099cc"/>
              </a:solidFill>
              <a:effectLst>
                <a:outerShdw dist="17819" dir="2700000" blurRad="0" rotWithShape="0">
                  <a:srgbClr val="005c7a"/>
                </a:outerShdw>
              </a:effectLst>
              <a:latin typeface="Handmedown"/>
              <a:ea typeface="Handmedown"/>
            </a:endParaRPr>
          </a:p>
        </p:txBody>
      </p:sp>
      <p:pic>
        <p:nvPicPr>
          <p:cNvPr id="281" name="Picture 5" descr="cartoon27"/>
          <p:cNvPicPr/>
          <p:nvPr/>
        </p:nvPicPr>
        <p:blipFill>
          <a:blip r:embed="rId1"/>
          <a:srcRect l="0" t="11271" r="0" b="1411"/>
          <a:stretch/>
        </p:blipFill>
        <p:spPr>
          <a:xfrm>
            <a:off x="1371600" y="1905120"/>
            <a:ext cx="3927600" cy="47242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6"/>
          <p:cNvSpPr/>
          <p:nvPr/>
        </p:nvSpPr>
        <p:spPr>
          <a:xfrm>
            <a:off x="5562720" y="2133720"/>
            <a:ext cx="33526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Please complete the remainder of your 4.3 assig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If finished, move on to the 4.1-4.3 checkpoint in preparation for Thursday’s qui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523880" y="1295280"/>
            <a:ext cx="6705720" cy="5205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22440" indent="-24224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ire Radical:  a radical in the fo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3"/>
              <p:cNvSpPr txBox="1"/>
              <p:nvPr/>
            </p:nvSpPr>
            <p:spPr>
              <a:xfrm>
                <a:off x="7391520" y="1389240"/>
                <a:ext cx="6699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8"/>
              <p:cNvSpPr txBox="1"/>
              <p:nvPr/>
            </p:nvSpPr>
            <p:spPr>
              <a:xfrm>
                <a:off x="2057400" y="2252520"/>
                <a:ext cx="44226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amples</m:t>
                    </m:r>
                    <m:r>
                      <m:t xml:space="preserve">: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Waltograph UI"/>
              </a:rPr>
              <a:t>Terminology</a:t>
            </a:r>
            <a:endParaRPr b="1" lang="en-US" sz="48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1447920" y="3809880"/>
            <a:ext cx="6933960" cy="52056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xed Radical:  a radical in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1"/>
              <p:cNvSpPr txBox="1"/>
              <p:nvPr/>
            </p:nvSpPr>
            <p:spPr>
              <a:xfrm>
                <a:off x="7391520" y="3809880"/>
                <a:ext cx="7938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22"/>
              <p:cNvSpPr txBox="1"/>
              <p:nvPr/>
            </p:nvSpPr>
            <p:spPr>
              <a:xfrm>
                <a:off x="2133720" y="4800600"/>
                <a:ext cx="49528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amples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8"/>
          <p:cNvSpPr/>
          <p:nvPr/>
        </p:nvSpPr>
        <p:spPr>
          <a:xfrm>
            <a:off x="5334120" y="1174680"/>
            <a:ext cx="3601800" cy="119124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53753" dir="2700000" blurRad="0" rotWithShape="0">
              <a:srgbClr val="00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Fi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RG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erfect square that is a factor of the radic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334120" y="2438280"/>
            <a:ext cx="3668760" cy="155700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153753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Rewrite the radicand as a product of its largest square and another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34120" y="4100400"/>
            <a:ext cx="3657600" cy="155700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53753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Take the square root of the perfect square and write the answer as a mixed rad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981080" y="5715000"/>
            <a:ext cx="5562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the Perfect Squa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, 4 , 9, 16, 25, 36, 49, 64, 81, 100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5"/>
              <p:cNvSpPr txBox="1"/>
              <p:nvPr/>
            </p:nvSpPr>
            <p:spPr>
              <a:xfrm>
                <a:off x="1752480" y="1219320"/>
                <a:ext cx="182880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6"/>
              <p:cNvSpPr txBox="1"/>
              <p:nvPr/>
            </p:nvSpPr>
            <p:spPr>
              <a:xfrm>
                <a:off x="1676520" y="3048120"/>
                <a:ext cx="27622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7"/>
              <p:cNvSpPr txBox="1"/>
              <p:nvPr/>
            </p:nvSpPr>
            <p:spPr>
              <a:xfrm>
                <a:off x="1676520" y="4191120"/>
                <a:ext cx="16192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altograph UI"/>
              </a:rPr>
              <a:t>Part 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Waltograph UI"/>
              </a:rPr>
              <a:t>Entire Radicals to Mixed Radicals</a:t>
            </a:r>
            <a:endParaRPr b="1" lang="en-US" sz="3200" spc="-1" strike="noStrike">
              <a:solidFill>
                <a:srgbClr val="000000"/>
              </a:solidFill>
              <a:latin typeface="Waltograph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2"/>
          <p:cNvGraphicFramePr/>
          <p:nvPr/>
        </p:nvGraphicFramePr>
        <p:xfrm>
          <a:off x="1371600" y="1581120"/>
          <a:ext cx="1158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81120"/>
                    <a:ext cx="1158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AutoShape 3"/>
          <p:cNvSpPr/>
          <p:nvPr/>
        </p:nvSpPr>
        <p:spPr>
          <a:xfrm rot="13557000">
            <a:off x="1615680" y="2285640"/>
            <a:ext cx="852480" cy="852480"/>
          </a:xfrm>
          <a:prstGeom prst="pie">
            <a:avLst/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"/>
          <p:cNvSpPr/>
          <p:nvPr/>
        </p:nvSpPr>
        <p:spPr>
          <a:xfrm rot="13557000">
            <a:off x="5806800" y="2285640"/>
            <a:ext cx="852480" cy="852480"/>
          </a:xfrm>
          <a:prstGeom prst="pie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6"/>
          <p:cNvGraphicFramePr/>
          <p:nvPr/>
        </p:nvGraphicFramePr>
        <p:xfrm>
          <a:off x="2743200" y="1503360"/>
          <a:ext cx="1698480" cy="7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503360"/>
                    <a:ext cx="16984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7"/>
          <p:cNvGraphicFramePr/>
          <p:nvPr/>
        </p:nvGraphicFramePr>
        <p:xfrm>
          <a:off x="5425920" y="1600200"/>
          <a:ext cx="1409760" cy="70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5920" y="1600200"/>
                    <a:ext cx="14097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9"/>
          <p:cNvGraphicFramePr/>
          <p:nvPr/>
        </p:nvGraphicFramePr>
        <p:xfrm>
          <a:off x="6950160" y="1523880"/>
          <a:ext cx="1981080" cy="71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50160" y="1523880"/>
                    <a:ext cx="19810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0"/>
          <p:cNvGraphicFramePr/>
          <p:nvPr/>
        </p:nvGraphicFramePr>
        <p:xfrm>
          <a:off x="1285920" y="4343400"/>
          <a:ext cx="1523880" cy="78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85920" y="4343400"/>
                    <a:ext cx="152388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AutoShape 11"/>
          <p:cNvSpPr/>
          <p:nvPr/>
        </p:nvSpPr>
        <p:spPr>
          <a:xfrm rot="13557000">
            <a:off x="1742760" y="5028840"/>
            <a:ext cx="852480" cy="852480"/>
          </a:xfrm>
          <a:prstGeom prst="pie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13"/>
          <p:cNvGraphicFramePr/>
          <p:nvPr/>
        </p:nvGraphicFramePr>
        <p:xfrm>
          <a:off x="2809800" y="4343400"/>
          <a:ext cx="1600200" cy="72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6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09800" y="4343400"/>
                    <a:ext cx="16002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4"/>
          <p:cNvGraphicFramePr/>
          <p:nvPr/>
        </p:nvGraphicFramePr>
        <p:xfrm>
          <a:off x="5551560" y="4167360"/>
          <a:ext cx="1247760" cy="89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51560" y="4167360"/>
                    <a:ext cx="1247760" cy="89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9"/>
          <p:cNvGraphicFramePr/>
          <p:nvPr/>
        </p:nvGraphicFramePr>
        <p:xfrm>
          <a:off x="6781680" y="4178160"/>
          <a:ext cx="1946520" cy="849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0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81680" y="4178160"/>
                    <a:ext cx="194652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25"/>
          <p:cNvGraphicFramePr/>
          <p:nvPr/>
        </p:nvGraphicFramePr>
        <p:xfrm>
          <a:off x="1150920" y="2971800"/>
          <a:ext cx="1738440" cy="650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2" name="Object 2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50920" y="2971800"/>
                    <a:ext cx="17384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26"/>
          <p:cNvGraphicFramePr/>
          <p:nvPr/>
        </p:nvGraphicFramePr>
        <p:xfrm>
          <a:off x="5175360" y="2989440"/>
          <a:ext cx="1917720" cy="614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4" name="Object 2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5360" y="2989440"/>
                    <a:ext cx="19177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27"/>
          <p:cNvGraphicFramePr/>
          <p:nvPr/>
        </p:nvGraphicFramePr>
        <p:xfrm>
          <a:off x="1150920" y="5673600"/>
          <a:ext cx="1738440" cy="650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6" name="Object 2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50920" y="5673600"/>
                    <a:ext cx="17384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Waltograph UI"/>
              </a:rPr>
              <a:t>Examples</a:t>
            </a:r>
            <a:endParaRPr b="1" lang="en-US" sz="44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178" name="AutoShape 29"/>
          <p:cNvSpPr/>
          <p:nvPr/>
        </p:nvSpPr>
        <p:spPr>
          <a:xfrm rot="13557000">
            <a:off x="5866920" y="4952520"/>
            <a:ext cx="852480" cy="852480"/>
          </a:xfrm>
          <a:prstGeom prst="pie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  <a:effectLst>
            <a:outerShdw dist="17819" dir="2700000" blurRad="0" rotWithShape="0">
              <a:srgbClr val="3d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Object 30"/>
          <p:cNvGraphicFramePr/>
          <p:nvPr/>
        </p:nvGraphicFramePr>
        <p:xfrm>
          <a:off x="5427720" y="5580000"/>
          <a:ext cx="1701720" cy="615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0" name="Object 3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27720" y="5580000"/>
                    <a:ext cx="1701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Waltograph UI"/>
              </a:rPr>
              <a:t>WHOAAAAA NELLY!!! </a:t>
            </a:r>
            <a:endParaRPr b="1" lang="en-US" sz="4400" spc="-1" strike="noStrike">
              <a:solidFill>
                <a:srgbClr val="000000"/>
              </a:solidFill>
              <a:latin typeface="Waltograph UI"/>
            </a:endParaRPr>
          </a:p>
        </p:txBody>
      </p:sp>
      <p:graphicFrame>
        <p:nvGraphicFramePr>
          <p:cNvPr id="182" name="Object 5"/>
          <p:cNvGraphicFramePr/>
          <p:nvPr/>
        </p:nvGraphicFramePr>
        <p:xfrm>
          <a:off x="1776240" y="2286000"/>
          <a:ext cx="124812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6240" y="2286000"/>
                    <a:ext cx="124812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6"/>
          <p:cNvGraphicFramePr/>
          <p:nvPr/>
        </p:nvGraphicFramePr>
        <p:xfrm>
          <a:off x="3287880" y="2297160"/>
          <a:ext cx="214596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7880" y="2297160"/>
                    <a:ext cx="21459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AutoShape 7"/>
          <p:cNvSpPr/>
          <p:nvPr/>
        </p:nvSpPr>
        <p:spPr>
          <a:xfrm rot="13557000">
            <a:off x="2091960" y="3071520"/>
            <a:ext cx="852480" cy="852480"/>
          </a:xfrm>
          <a:prstGeom prst="pie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  <a:effectLst>
            <a:outerShdw dist="17819" dir="2700000" blurRad="0" rotWithShape="0">
              <a:srgbClr val="3d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Object 8"/>
          <p:cNvGraphicFramePr/>
          <p:nvPr/>
        </p:nvGraphicFramePr>
        <p:xfrm>
          <a:off x="1600200" y="3657600"/>
          <a:ext cx="1738440" cy="70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3657600"/>
                    <a:ext cx="17384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" name="Picture 9" descr="MC900434805[1]"/>
          <p:cNvPicPr/>
          <p:nvPr/>
        </p:nvPicPr>
        <p:blipFill>
          <a:blip r:embed="rId7"/>
          <a:stretch/>
        </p:blipFill>
        <p:spPr>
          <a:xfrm>
            <a:off x="838080" y="76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0"/>
          <p:cNvSpPr/>
          <p:nvPr/>
        </p:nvSpPr>
        <p:spPr>
          <a:xfrm rot="13557000">
            <a:off x="4633560" y="3123720"/>
            <a:ext cx="852480" cy="852480"/>
          </a:xfrm>
          <a:prstGeom prst="pie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  <a:effectLst>
            <a:outerShdw dist="17819" dir="2700000" blurRad="0" rotWithShape="0">
              <a:srgbClr val="3d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Object 11"/>
          <p:cNvGraphicFramePr/>
          <p:nvPr/>
        </p:nvGraphicFramePr>
        <p:xfrm>
          <a:off x="4365720" y="3639960"/>
          <a:ext cx="1463760" cy="7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2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65720" y="3639960"/>
                    <a:ext cx="14637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12"/>
          <p:cNvGraphicFramePr/>
          <p:nvPr/>
        </p:nvGraphicFramePr>
        <p:xfrm>
          <a:off x="3525840" y="4572000"/>
          <a:ext cx="2346480" cy="898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4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25840" y="4572000"/>
                    <a:ext cx="23464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AutoShape 13"/>
          <p:cNvSpPr/>
          <p:nvPr/>
        </p:nvSpPr>
        <p:spPr>
          <a:xfrm>
            <a:off x="6324480" y="1600200"/>
            <a:ext cx="2971800" cy="2057400"/>
          </a:xfrm>
          <a:prstGeom prst="cloudCallout">
            <a:avLst>
              <a:gd name="adj1" fmla="val -79592"/>
              <a:gd name="adj2" fmla="val 7791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ke sure your radical is in lowest ter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14"/>
          <p:cNvGraphicFramePr/>
          <p:nvPr/>
        </p:nvGraphicFramePr>
        <p:xfrm>
          <a:off x="3825720" y="5638680"/>
          <a:ext cx="1846440" cy="898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7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25720" y="5638680"/>
                    <a:ext cx="184644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Line 16"/>
          <p:cNvSpPr/>
          <p:nvPr/>
        </p:nvSpPr>
        <p:spPr>
          <a:xfrm flipH="1">
            <a:off x="3809520" y="2057400"/>
            <a:ext cx="1600200" cy="121932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3886200" y="2057400"/>
            <a:ext cx="1676520" cy="121932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6019920" y="6019920"/>
            <a:ext cx="304560" cy="30456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9"/>
          <p:cNvSpPr/>
          <p:nvPr/>
        </p:nvSpPr>
        <p:spPr>
          <a:xfrm flipV="1">
            <a:off x="6324480" y="5410080"/>
            <a:ext cx="1067040" cy="91440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Waltograph UI"/>
              </a:rPr>
              <a:t>HOW COULD WE HAVE AVOIDED THIS PROBLEM?</a:t>
            </a:r>
            <a:r>
              <a:rPr b="1" lang="en-CA" sz="3200" spc="-1" strike="noStrike">
                <a:solidFill>
                  <a:srgbClr val="000000"/>
                </a:solidFill>
                <a:latin typeface="Waltograph U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Waltograph UI"/>
            </a:endParaRPr>
          </a:p>
        </p:txBody>
      </p:sp>
      <p:graphicFrame>
        <p:nvGraphicFramePr>
          <p:cNvPr id="203" name="Object 4"/>
          <p:cNvGraphicFramePr/>
          <p:nvPr/>
        </p:nvGraphicFramePr>
        <p:xfrm>
          <a:off x="3048120" y="1689120"/>
          <a:ext cx="124776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89120"/>
                    <a:ext cx="124776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5"/>
          <p:cNvGraphicFramePr/>
          <p:nvPr/>
        </p:nvGraphicFramePr>
        <p:xfrm>
          <a:off x="4325760" y="1676520"/>
          <a:ext cx="1847880" cy="8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5760" y="1676520"/>
                    <a:ext cx="18478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AutoShape 6"/>
          <p:cNvSpPr/>
          <p:nvPr/>
        </p:nvSpPr>
        <p:spPr>
          <a:xfrm rot="13557000">
            <a:off x="3363480" y="2474640"/>
            <a:ext cx="852480" cy="852480"/>
          </a:xfrm>
          <a:prstGeom prst="pi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  <a:effectLst>
            <a:outerShdw dist="17819" dir="2700000" blurRad="0" rotWithShape="0">
              <a:srgbClr val="6300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Object 7"/>
          <p:cNvGraphicFramePr/>
          <p:nvPr/>
        </p:nvGraphicFramePr>
        <p:xfrm>
          <a:off x="2924280" y="3084480"/>
          <a:ext cx="1701720" cy="6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24280" y="3084480"/>
                    <a:ext cx="17017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Text Box 8"/>
          <p:cNvSpPr/>
          <p:nvPr/>
        </p:nvSpPr>
        <p:spPr>
          <a:xfrm>
            <a:off x="1295280" y="3852720"/>
            <a:ext cx="7543800" cy="234900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153753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 should have written the radicand as a product of it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rge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quare and another number.  Not just any square!  Both methods will get you full marks, as long as your final answer has the radicand in its lowest terms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Object 25"/>
              <p:cNvSpPr txBox="1"/>
              <p:nvPr/>
            </p:nvSpPr>
            <p:spPr>
              <a:xfrm>
                <a:off x="2671920" y="1631880"/>
                <a:ext cx="21477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6"/>
              <p:cNvSpPr txBox="1"/>
              <p:nvPr/>
            </p:nvSpPr>
            <p:spPr>
              <a:xfrm>
                <a:off x="2841480" y="3232080"/>
                <a:ext cx="22021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7"/>
              <p:cNvSpPr txBox="1"/>
              <p:nvPr/>
            </p:nvSpPr>
            <p:spPr>
              <a:xfrm>
                <a:off x="7432560" y="3209760"/>
                <a:ext cx="14828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8"/>
              <p:cNvSpPr txBox="1"/>
              <p:nvPr/>
            </p:nvSpPr>
            <p:spPr>
              <a:xfrm>
                <a:off x="2519280" y="4984920"/>
                <a:ext cx="23814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9"/>
              <p:cNvSpPr txBox="1"/>
              <p:nvPr/>
            </p:nvSpPr>
            <p:spPr>
              <a:xfrm>
                <a:off x="7091280" y="4984920"/>
                <a:ext cx="17971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30"/>
              <p:cNvSpPr txBox="1"/>
              <p:nvPr/>
            </p:nvSpPr>
            <p:spPr>
              <a:xfrm>
                <a:off x="7004160" y="1631880"/>
                <a:ext cx="16873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altograph UI"/>
              </a:rPr>
              <a:t>More mixed radicals that can be further reduced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32"/>
              <p:cNvSpPr txBox="1"/>
              <p:nvPr/>
            </p:nvSpPr>
            <p:spPr>
              <a:xfrm>
                <a:off x="4957920" y="1631880"/>
                <a:ext cx="21207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34"/>
              <p:cNvSpPr txBox="1"/>
              <p:nvPr/>
            </p:nvSpPr>
            <p:spPr>
              <a:xfrm>
                <a:off x="5143680" y="3209760"/>
                <a:ext cx="216504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35"/>
              <p:cNvSpPr txBox="1"/>
              <p:nvPr/>
            </p:nvSpPr>
            <p:spPr>
              <a:xfrm>
                <a:off x="1044720" y="3232080"/>
                <a:ext cx="13935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36"/>
              <p:cNvSpPr txBox="1"/>
              <p:nvPr/>
            </p:nvSpPr>
            <p:spPr>
              <a:xfrm>
                <a:off x="1071720" y="1631880"/>
                <a:ext cx="13935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37"/>
              <p:cNvSpPr txBox="1"/>
              <p:nvPr/>
            </p:nvSpPr>
            <p:spPr>
              <a:xfrm>
                <a:off x="1093680" y="4984920"/>
                <a:ext cx="13478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8"/>
              <p:cNvSpPr txBox="1"/>
              <p:nvPr/>
            </p:nvSpPr>
            <p:spPr>
              <a:xfrm>
                <a:off x="4957920" y="4984920"/>
                <a:ext cx="21650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3405240" y="1405080"/>
                <a:ext cx="22446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0"/>
              <p:cNvSpPr txBox="1"/>
              <p:nvPr/>
            </p:nvSpPr>
            <p:spPr>
              <a:xfrm>
                <a:off x="6031080" y="1400040"/>
                <a:ext cx="15253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1"/>
              <p:cNvSpPr txBox="1"/>
              <p:nvPr/>
            </p:nvSpPr>
            <p:spPr>
              <a:xfrm>
                <a:off x="3414600" y="3124080"/>
                <a:ext cx="1930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2"/>
              <p:cNvSpPr txBox="1"/>
              <p:nvPr/>
            </p:nvSpPr>
            <p:spPr>
              <a:xfrm>
                <a:off x="6045120" y="3141720"/>
                <a:ext cx="15256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3"/>
              <p:cNvSpPr txBox="1"/>
              <p:nvPr/>
            </p:nvSpPr>
            <p:spPr>
              <a:xfrm>
                <a:off x="1981080" y="4952880"/>
                <a:ext cx="1078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4"/>
              <p:cNvSpPr txBox="1"/>
              <p:nvPr/>
            </p:nvSpPr>
            <p:spPr>
              <a:xfrm>
                <a:off x="3419640" y="4910040"/>
                <a:ext cx="21542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5"/>
              <p:cNvSpPr txBox="1"/>
              <p:nvPr/>
            </p:nvSpPr>
            <p:spPr>
              <a:xfrm>
                <a:off x="6031080" y="4910040"/>
                <a:ext cx="1525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6"/>
              <p:cNvSpPr txBox="1"/>
              <p:nvPr/>
            </p:nvSpPr>
            <p:spPr>
              <a:xfrm>
                <a:off x="1987560" y="1371600"/>
                <a:ext cx="10764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7"/>
              <p:cNvSpPr txBox="1"/>
              <p:nvPr/>
            </p:nvSpPr>
            <p:spPr>
              <a:xfrm>
                <a:off x="1982880" y="3157560"/>
                <a:ext cx="10764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altograph UI"/>
              </a:rPr>
              <a:t>Simplifying with indices greater than 2</a:t>
            </a:r>
            <a:endParaRPr b="1" lang="en-US" sz="4000" spc="-1" strike="noStrike">
              <a:solidFill>
                <a:srgbClr val="000000"/>
              </a:solidFill>
              <a:latin typeface="Waltograph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8"/>
          <p:cNvSpPr/>
          <p:nvPr/>
        </p:nvSpPr>
        <p:spPr>
          <a:xfrm>
            <a:off x="5410080" y="1219320"/>
            <a:ext cx="3505320" cy="1557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Square the number outside of the radical and write it under a radical 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5410080" y="2971800"/>
            <a:ext cx="3581640" cy="1557000"/>
          </a:xfrm>
          <a:prstGeom prst="rect">
            <a:avLst/>
          </a:prstGeom>
          <a:solidFill>
            <a:srgbClr val="54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Multiply the two numbers together and put the answer under a radical 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14"/>
              <p:cNvSpPr txBox="1"/>
              <p:nvPr/>
            </p:nvSpPr>
            <p:spPr>
              <a:xfrm>
                <a:off x="1143000" y="1219320"/>
                <a:ext cx="11430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237" name="Object 15"/>
          <p:cNvGraphicFramePr/>
          <p:nvPr/>
        </p:nvGraphicFramePr>
        <p:xfrm>
          <a:off x="2438280" y="1219320"/>
          <a:ext cx="247680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219320"/>
                    <a:ext cx="24768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9" name="Object 16"/>
              <p:cNvSpPr txBox="1"/>
              <p:nvPr/>
            </p:nvSpPr>
            <p:spPr>
              <a:xfrm>
                <a:off x="2495520" y="2209680"/>
                <a:ext cx="16192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240" name="Object 17"/>
          <p:cNvGraphicFramePr/>
          <p:nvPr/>
        </p:nvGraphicFramePr>
        <p:xfrm>
          <a:off x="1204920" y="4114800"/>
          <a:ext cx="114300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4920" y="4114800"/>
                    <a:ext cx="11430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8"/>
          <p:cNvGraphicFramePr/>
          <p:nvPr/>
        </p:nvGraphicFramePr>
        <p:xfrm>
          <a:off x="2529000" y="4114800"/>
          <a:ext cx="271440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29000" y="4114800"/>
                    <a:ext cx="27144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9"/>
          <p:cNvGraphicFramePr/>
          <p:nvPr/>
        </p:nvGraphicFramePr>
        <p:xfrm>
          <a:off x="2529000" y="5181480"/>
          <a:ext cx="1619280" cy="85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29000" y="5181480"/>
                    <a:ext cx="161928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Text Box 20"/>
          <p:cNvSpPr/>
          <p:nvPr/>
        </p:nvSpPr>
        <p:spPr>
          <a:xfrm>
            <a:off x="106668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y this 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altograph UI"/>
              </a:rPr>
              <a:t>Part 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Waltograph UI"/>
              </a:rPr>
              <a:t>Mixed Radicals to Entire Radicals</a:t>
            </a:r>
            <a:endParaRPr b="1" lang="en-US" sz="3200" spc="-1" strike="noStrike">
              <a:solidFill>
                <a:srgbClr val="000000"/>
              </a:solidFill>
              <a:latin typeface="Waltograph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21:55:57Z</dcterms:created>
  <dc:creator>R Kennedy</dc:creator>
  <dc:description/>
  <dc:language>en-US</dc:language>
  <cp:lastModifiedBy>DEPT. OF EDUCATION </cp:lastModifiedBy>
  <dcterms:modified xsi:type="dcterms:W3CDTF">2012-11-26T17:43:04Z</dcterms:modified>
  <cp:revision>90</cp:revision>
  <dc:subject/>
  <dc:title>No Slide Title</dc:title>
</cp:coreProperties>
</file>